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ED5-888A-40A2-9506-E522B301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876-C529-493F-BDB0-EAE79B28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27D-5E7E-45BD-9663-8238C226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2B7-0A3E-4845-A2C5-CD07D263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4F1-BD87-497D-BC4A-B12B0A65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4EF-CC63-4820-8561-9EDE4062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472-BA6B-4BA4-9232-A8AA5CBC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396-4385-4967-8EC6-F90D424F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CDD-61E5-4DF8-ABFC-11338E46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FA1-9F15-40DA-82ED-D90D9FC1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589-D45D-41AF-B056-B75B447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074D-BEAF-4746-A83F-D19BFA38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439D-812F-4F12-BD63-33C12BDBA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streferat.ru/referat-43914.html" TargetMode="External"/><Relationship Id="rId3" Type="http://schemas.openxmlformats.org/officeDocument/2006/relationships/hyperlink" Target="http://revolution.allbest.ru/culture/00053719_0.html" TargetMode="External"/><Relationship Id="rId4" Type="http://schemas.openxmlformats.org/officeDocument/2006/relationships/hyperlink" Target="http://www.mystic-chel.ru/primeval/culture/192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СКАЛЬНАЯ ЖИВОПИСЬ В ЭПОХУ ПЕРВОБЫТНОГО МИ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полнил ученик 7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саков Александ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ыктывкар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Главный вопрос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очему люди рисуют?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29320" cy="15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кое значение имеет наскальная живопись в настоящее время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143080"/>
            <a:ext cx="81154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ервобытное искусство отразило первые представления человека об окружающем мире, благодаря ему сохранялись и передавались знания и навыки, происходило общение людей друг с другом. В духовной культуре первобытного мира искусство стало игра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такую же универсальную роль, какую заострённый камень выполнял в трудовой деятельност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то такое наскальная живопись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рисунки первобытного человека на природных каменных поверхностях пещер, навесов, скал, крупных камней, сделанные минеральной краской. Первые рисунки  наскальной живописи датируются началом позднего палеолита - 40-35 тыс. лет 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 каких частях света найдена наскальная живопись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42640" y="3500280"/>
            <a:ext cx="7543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214200" y="1928880"/>
            <a:ext cx="8572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ые находки сделаны в XIX веке в пещерах Пиренейских гор. В этом районе расположено более 7 тыс. карстовых пещер. В сотнях из них обнаружены наскальные изображения, созданные краской или выцарапанные камнем. Некоторые пещеры представляют собой уникальные подземные галереи (пещеру Альтамира в Испании называют «Сикстинской капеллой» первобытного искусства), художественные достоинства которых привлекают сегодня множество ученых и туристов. Наскальные рисунки древнекаменного века называют настенной живописью или пещерной роспис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97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то мы узнаем о быте народа по наскальной живопис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628640"/>
            <a:ext cx="85438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И в живописи, и в скульптуре первобытный человек часто изображал животных. Склонность первобытного человека изображать животных именуют зоологическим или звериным стилем в искусстве, а за свою миниатюрность небольшие фигурки и изображения зверей получили название пластики малых форм. Звериный стиль — условное название распространенных в искусстве древности стилизованных изображений животных (либо их частей). Встречались сюжеты с ранеными или убитыми на охоте животным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Изображения, особенно человека, стилизуются, схематизируются, иногда почти сводятся к знаку. Это дает возможность усиливать динамику, ритм. Легкие, удлиненные лучники стреляют в бегущих оленей, стремительно несутся навстречу друг другу сражающиеся воины. Своеобразно стилизованы человеческие фигуры в кавказских петроглифах (изображениях, выбитых или выгравированных на камне): люди в лодках обозначены просто черточками. первобытные люди умели выразить в росписях, рельефах и гравированных изображениях, связанных с обрядами. рисунок исполнялся не одной краской, а несколькими, он приобрел объемность, чему способствовали переходы тона. Первоначально появились знаковые изображения, например отпечатки ладоней и "макароны" - разнообразные переплетенные линии, проведенные пальцами по сырой глине или острыми резцами по камню. Возможно, человек видел в "следах", оставленных своей рукой, подобие следов лап и когтей животного и хотел своими "следами" символически утвердить свою способность победить зверя, поэтому отпечатки рук человек не перестал наносить и в дальнейшем, когда уже научился создавать изображения животных. С развитием охоты стали изображать фигуры животных и человека. В неолите с появлением земледелия наскальное искусство постепенно сошло на нет, так как стало развиваться рисуночное письмо. Процветало и орнаментальное искусство, которое имело ритуально-магическое значение и все более использовалось для украшения предметов. В эпоху бронзы создавались изображения, напоминающие карты, на которых можно различить вспаханные поля, тропинки, дома, загоны для скот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В наскальной живописи можно выделить пять основных мотивов: человеческие фигуры, животные, орудия труда и оружие, изображения местности, символы и идеограммы - повторяющиеся знаки (стрелки, палочки, кружочки, кресты, точки и др.). Эти изображения не только наносились красками, но и вырезались. Необходимо отметить еще ряд особенностей: редко встречаются изображения с выраженными индивидуальными чертами, практически отсутствуют растения, цветы, плоды и пейзажи. У ранних охотников существуют рисунки излюбленных пар животных: бизон - лошадь в Европе, слон - жираф в Африк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bestreferat.ru/referat-4391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revolution.allbest.ru/culture/00053719_0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mystic-chel.ru/primeval/culture/192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9:10:42Z</dcterms:created>
  <dc:creator>НАСТАСЬЯ</dc:creator>
  <dc:description/>
  <dc:language>en-US</dc:language>
  <cp:lastModifiedBy>студент</cp:lastModifiedBy>
  <dcterms:modified xsi:type="dcterms:W3CDTF">2010-05-14T11:07:39Z</dcterms:modified>
  <cp:revision>39</cp:revision>
  <dc:subject/>
  <dc:title>НАСКАЛЬНАЯ ЖИВОПИСЬ В ЭПОХУ ПЕРВОБЫТНОГО МИРА</dc:title>
</cp:coreProperties>
</file>